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2490-12CE-4C98-B62B-50150B9969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1ED7-E62C-4DE5-94C4-FE14216C595A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5E68-8C28-4E38-B059-3F15973368F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477C-408E-4D60-A24B-2578C01DE7E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EDDE-C1BF-4FE4-BAC9-2581ACDBE74D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667B-E897-4763-9F01-FD63AAB0DF77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595-AAC4-4C7F-845B-DE62F51E0311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0247-F7DB-4356-958C-B94484CF2DF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CE4-34C4-456A-8662-66B8C07F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16C-A1D0-4DEA-A156-F3A09C9F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7AE-9EDD-4A8D-BF98-950965D0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7D93-77F6-40C5-AE9D-D7D82BC3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C54-ED41-4AD7-9259-168313E7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58C-2530-4F82-8AD5-E3C6017D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7D0-B279-4A29-8797-B8466CEC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D17-1913-428F-BFE3-22739CC9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C3A5-9BA2-4E80-BE16-7283EBAA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ACA-340B-4BD1-B274-7BAB77FF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3CA1-A79B-4F1E-8D11-D8503A76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A63-769C-4AFE-A90A-4AA41C37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EC6C-6A35-4BEA-B687-5E45F6A36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03864"/>
                </a:solidFill>
                <a:latin typeface="Times New Roman"/>
                <a:ea typeface="Times New Roman"/>
              </a:rPr>
              <a:t>декабрь, 2021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715760" y="136440"/>
            <a:ext cx="147636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2507760"/>
            <a:ext cx="10515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300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ет число женщин, умерших от прерывания беременности (O02 - O06) всего (графа 1), из них в сроки: до 12 недель (графа 2), с 12 до 22 недель (графа 3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1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165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/>
          <a:stretch/>
        </p:blipFill>
        <p:spPr>
          <a:xfrm>
            <a:off x="739800" y="681120"/>
            <a:ext cx="9345600" cy="993600"/>
          </a:xfrm>
          <a:prstGeom prst="rect">
            <a:avLst/>
          </a:prstGeom>
          <a:ln w="0">
            <a:noFill/>
          </a:ln>
        </p:spPr>
      </p:pic>
      <p:pic>
        <p:nvPicPr>
          <p:cNvPr id="90" name="Группа 8" descr=""/>
          <p:cNvPicPr/>
          <p:nvPr/>
        </p:nvPicPr>
        <p:blipFill>
          <a:blip r:embed="rId3"/>
          <a:stretch/>
        </p:blipFill>
        <p:spPr>
          <a:xfrm>
            <a:off x="1474920" y="4932360"/>
            <a:ext cx="532764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92" name="Группа 13"/>
          <p:cNvGrpSpPr/>
          <p:nvPr/>
        </p:nvGrpSpPr>
        <p:grpSpPr>
          <a:xfrm>
            <a:off x="727200" y="2093760"/>
            <a:ext cx="10101240" cy="4326120"/>
            <a:chOff x="727200" y="2093760"/>
            <a:chExt cx="10101240" cy="4326120"/>
          </a:xfrm>
        </p:grpSpPr>
        <p:pic>
          <p:nvPicPr>
            <p:cNvPr id="93" name="Схема 2" descr=""/>
            <p:cNvPicPr/>
            <p:nvPr/>
          </p:nvPicPr>
          <p:blipFill>
            <a:blip r:embed="rId1"/>
            <a:stretch/>
          </p:blipFill>
          <p:spPr>
            <a:xfrm>
              <a:off x="727200" y="2093760"/>
              <a:ext cx="10101240" cy="432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5"/>
            <p:cNvSpPr/>
            <p:nvPr/>
          </p:nvSpPr>
          <p:spPr>
            <a:xfrm>
              <a:off x="944640" y="274716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1198800" y="396828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TextBox 12"/>
            <p:cNvSpPr/>
            <p:nvPr/>
          </p:nvSpPr>
          <p:spPr>
            <a:xfrm>
              <a:off x="1362960" y="529668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11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6"/>
          <p:cNvSpPr/>
          <p:nvPr/>
        </p:nvSpPr>
        <p:spPr>
          <a:xfrm>
            <a:off x="1125360" y="268272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1444680" y="40053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8"/>
          <p:cNvSpPr/>
          <p:nvPr/>
        </p:nvSpPr>
        <p:spPr>
          <a:xfrm>
            <a:off x="1144440" y="5291280"/>
            <a:ext cx="4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03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104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3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гион прож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2" name="Группа 13"/>
          <p:cNvGrpSpPr/>
          <p:nvPr/>
        </p:nvGrpSpPr>
        <p:grpSpPr>
          <a:xfrm>
            <a:off x="947880" y="852480"/>
            <a:ext cx="7958160" cy="4956120"/>
            <a:chOff x="947880" y="852480"/>
            <a:chExt cx="7958160" cy="4956120"/>
          </a:xfrm>
        </p:grpSpPr>
        <p:pic>
          <p:nvPicPr>
            <p:cNvPr id="113" name="Схема 2" descr=""/>
            <p:cNvPicPr/>
            <p:nvPr/>
          </p:nvPicPr>
          <p:blipFill>
            <a:blip r:embed="rId1"/>
            <a:stretch/>
          </p:blipFill>
          <p:spPr>
            <a:xfrm>
              <a:off x="947880" y="852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Box 5"/>
            <p:cNvSpPr/>
            <p:nvPr/>
          </p:nvSpPr>
          <p:spPr>
            <a:xfrm>
              <a:off x="1504800" y="15318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7"/>
            <p:cNvSpPr/>
            <p:nvPr/>
          </p:nvSpPr>
          <p:spPr>
            <a:xfrm>
              <a:off x="1973160" y="310248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2"/>
            <p:cNvSpPr/>
            <p:nvPr/>
          </p:nvSpPr>
          <p:spPr>
            <a:xfrm>
              <a:off x="1567800" y="4579560"/>
              <a:ext cx="1814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11"/>
          <p:cNvSpPr/>
          <p:nvPr/>
        </p:nvSpPr>
        <p:spPr>
          <a:xfrm>
            <a:off x="2452680" y="3792600"/>
            <a:ext cx="7797960" cy="22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ить «Карту донесения о случае материнской смерти», учетная форма №003/у-МС утверждена приказом Минздрава России от 20 октября 2020 г. № 1130 н «Об утверждении Порядка оказания медицинской помощи по профилю «акушерство и гинекология», скрыв персональ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14" descr=""/>
          <p:cNvPicPr/>
          <p:nvPr/>
        </p:nvPicPr>
        <p:blipFill>
          <a:blip r:embed="rId2"/>
          <a:stretch/>
        </p:blipFill>
        <p:spPr>
          <a:xfrm>
            <a:off x="10721880" y="136440"/>
            <a:ext cx="1470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0" name="Прямоугольная выноска 3"/>
          <p:cNvSpPr/>
          <p:nvPr/>
        </p:nvSpPr>
        <p:spPr>
          <a:xfrm>
            <a:off x="6411960" y="1658880"/>
            <a:ext cx="54054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1000 число медицинских абортов включает число медицинских абортов легальных (по желанию женщины) и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24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ая выноска 9"/>
          <p:cNvSpPr/>
          <p:nvPr/>
        </p:nvSpPr>
        <p:spPr>
          <a:xfrm>
            <a:off x="7432560" y="3616200"/>
            <a:ext cx="4384800" cy="1608120"/>
          </a:xfrm>
          <a:prstGeom prst="wedgeRectCallout">
            <a:avLst>
              <a:gd name="adj1" fmla="val -61574"/>
              <a:gd name="adj2" fmla="val 89527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абортов по медицинским показаниям включаются аборты, проведенные при угрозе состоянию здоровья женщины или по показаниям со стороны плода, независимо от метода (О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ая выноска 10"/>
          <p:cNvSpPr/>
          <p:nvPr/>
        </p:nvSpPr>
        <p:spPr>
          <a:xfrm>
            <a:off x="4444920" y="2654280"/>
            <a:ext cx="1841760" cy="1101600"/>
          </a:xfrm>
          <a:prstGeom prst="wedgeRectCallout">
            <a:avLst>
              <a:gd name="adj1" fmla="val 84083"/>
              <a:gd name="adj2" fmla="val 24137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13т1000г4ст4=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с 12 до 2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 по медицинским показан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28" name="Прямоугольная выноска 3"/>
          <p:cNvSpPr/>
          <p:nvPr/>
        </p:nvSpPr>
        <p:spPr>
          <a:xfrm>
            <a:off x="6442200" y="1547640"/>
            <a:ext cx="5403600" cy="1530360"/>
          </a:xfrm>
          <a:prstGeom prst="wedgeRectCallout">
            <a:avLst>
              <a:gd name="adj1" fmla="val -41370"/>
              <a:gd name="adj2" fmla="val 22935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таблице 2000 указывается только число абортов по медицинским показания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2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2" name="Овал 5"/>
          <p:cNvSpPr/>
          <p:nvPr/>
        </p:nvSpPr>
        <p:spPr>
          <a:xfrm>
            <a:off x="5524560" y="5600880"/>
            <a:ext cx="419040" cy="393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34" name="Прямоугольная выноска 3"/>
          <p:cNvSpPr/>
          <p:nvPr/>
        </p:nvSpPr>
        <p:spPr>
          <a:xfrm>
            <a:off x="7275600" y="1320840"/>
            <a:ext cx="4776840" cy="1714320"/>
          </a:xfrm>
          <a:prstGeom prst="wedgeRectCallout">
            <a:avLst>
              <a:gd name="adj1" fmla="val -80245"/>
              <a:gd name="adj2" fmla="val 232912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других видов абортов (криминальных) включаются случаи, когда установлено вмешательство с целью прерывания беременности самой беременной или другими лицами вне лечебной организации(О0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38" name="Овал 6"/>
          <p:cNvSpPr/>
          <p:nvPr/>
        </p:nvSpPr>
        <p:spPr>
          <a:xfrm>
            <a:off x="5473800" y="599436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546120" y="2805120"/>
          <a:ext cx="108964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0" name="Прямоугольная выноска 3"/>
          <p:cNvSpPr/>
          <p:nvPr/>
        </p:nvSpPr>
        <p:spPr>
          <a:xfrm>
            <a:off x="7275600" y="1287360"/>
            <a:ext cx="4776840" cy="2427480"/>
          </a:xfrm>
          <a:prstGeom prst="wedgeRectCallout">
            <a:avLst>
              <a:gd name="adj1" fmla="val -77055"/>
              <a:gd name="adj2" fmla="val 16261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число неуточненных (внебольничных) абортов включаются случаи, когда не выявлено достаточных данных, позволяющих судить о характере аборта (спонтанном прерывании беременности или имевшем место вмешательстве с целью ее прерывания)(О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44" name="Овал 6"/>
          <p:cNvSpPr/>
          <p:nvPr/>
        </p:nvSpPr>
        <p:spPr>
          <a:xfrm>
            <a:off x="5524560" y="63118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546120" y="2031840"/>
          <a:ext cx="10896480" cy="4272120"/>
        </p:xfrm>
        <a:graphic>
          <a:graphicData uri="http://schemas.openxmlformats.org/drawingml/2006/table">
            <a:tbl>
              <a:tblPr/>
              <a:tblGrid>
                <a:gridCol w="76320"/>
                <a:gridCol w="4127400"/>
                <a:gridCol w="533520"/>
                <a:gridCol w="912600"/>
                <a:gridCol w="1063800"/>
                <a:gridCol w="836640"/>
                <a:gridCol w="836640"/>
                <a:gridCol w="836280"/>
                <a:gridCol w="836640"/>
                <a:gridCol w="836640"/>
              </a:tblGrid>
              <a:tr h="29052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92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223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509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0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75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9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оме того:  внематочная беремен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984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узырный зано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189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удачная попытка абор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46" name="Прямоугольная выноска 3"/>
          <p:cNvSpPr/>
          <p:nvPr/>
        </p:nvSpPr>
        <p:spPr>
          <a:xfrm>
            <a:off x="7275600" y="1287360"/>
            <a:ext cx="4776840" cy="2451240"/>
          </a:xfrm>
          <a:prstGeom prst="wedgeRectCallout">
            <a:avLst>
              <a:gd name="adj1" fmla="val -75601"/>
              <a:gd name="adj2" fmla="val 144671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о Международной классификации болезней 10-го пересмотра и правилам кодирования "неудачная попытка аборта (O07)" включает случаи, когда процедура искусственного прерывания беременности, в том числе по медицинским показаниям, была выполнена, но оказалась безуспешной, и развитие плода продолж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5"/>
          <p:cNvSpPr/>
          <p:nvPr/>
        </p:nvSpPr>
        <p:spPr>
          <a:xfrm>
            <a:off x="1587600" y="74916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50" name="Овал 6"/>
          <p:cNvSpPr/>
          <p:nvPr/>
        </p:nvSpPr>
        <p:spPr>
          <a:xfrm>
            <a:off x="5524560" y="5935680"/>
            <a:ext cx="469800" cy="368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Рисунок 4" descr=""/>
          <p:cNvPicPr/>
          <p:nvPr/>
        </p:nvPicPr>
        <p:blipFill>
          <a:blip r:embed="rId1"/>
          <a:stretch/>
        </p:blipFill>
        <p:spPr>
          <a:xfrm>
            <a:off x="727200" y="561960"/>
            <a:ext cx="9443880" cy="1263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1105 отражаются осложнения, вызванные абортом (из строки 1 графы 4 таблицы 1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блице 2105 отражаются осложнения, вызванные абортом (из строки 1 графы 4 таблицы 2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Рисунок 11" descr=""/>
          <p:cNvPicPr/>
          <p:nvPr/>
        </p:nvPicPr>
        <p:blipFill>
          <a:blip r:embed="rId2"/>
          <a:stretch/>
        </p:blipFill>
        <p:spPr>
          <a:xfrm>
            <a:off x="10566360" y="136440"/>
            <a:ext cx="1625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017800"/>
            <a:ext cx="848052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79320" y="264636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58760"/>
                <a:gridCol w="830520"/>
                <a:gridCol w="83160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sp>
        <p:nvSpPr>
          <p:cNvPr id="162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Заголовок 1"/>
          <p:cNvSpPr/>
          <p:nvPr/>
        </p:nvSpPr>
        <p:spPr>
          <a:xfrm>
            <a:off x="495360" y="2309760"/>
            <a:ext cx="787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ая выноска 4"/>
          <p:cNvSpPr/>
          <p:nvPr/>
        </p:nvSpPr>
        <p:spPr>
          <a:xfrm>
            <a:off x="9261360" y="364500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оугольная выноска 2"/>
          <p:cNvSpPr/>
          <p:nvPr/>
        </p:nvSpPr>
        <p:spPr>
          <a:xfrm>
            <a:off x="5246640" y="5114880"/>
            <a:ext cx="2397240" cy="156528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2f5597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803160" y="1927080"/>
          <a:ext cx="10833120" cy="387540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840"/>
                <a:gridCol w="907920"/>
                <a:gridCol w="1047600"/>
                <a:gridCol w="841320"/>
                <a:gridCol w="831960"/>
                <a:gridCol w="831960"/>
                <a:gridCol w="831960"/>
                <a:gridCol w="8316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f559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3f3"/>
                    </a:solidFill>
                  </a:tcPr>
                </a:tc>
              </a:tr>
            </a:tbl>
          </a:graphicData>
        </a:graphic>
      </p:graphicFrame>
      <p:sp>
        <p:nvSpPr>
          <p:cNvPr id="168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ая выноска 3"/>
          <p:cNvSpPr/>
          <p:nvPr/>
        </p:nvSpPr>
        <p:spPr>
          <a:xfrm>
            <a:off x="1841400" y="5235480"/>
            <a:ext cx="2281320" cy="1262160"/>
          </a:xfrm>
          <a:prstGeom prst="wedgeRectCallout">
            <a:avLst>
              <a:gd name="adj1" fmla="val 213189"/>
              <a:gd name="adj2" fmla="val -68935"/>
            </a:avLst>
          </a:prstGeom>
          <a:solidFill>
            <a:srgbClr val="c9c9c9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ая выноска 4"/>
          <p:cNvSpPr/>
          <p:nvPr/>
        </p:nvSpPr>
        <p:spPr>
          <a:xfrm>
            <a:off x="9664560" y="3863880"/>
            <a:ext cx="2281320" cy="1262160"/>
          </a:xfrm>
          <a:prstGeom prst="wedgeRectCallout">
            <a:avLst>
              <a:gd name="adj1" fmla="val -89388"/>
              <a:gd name="adj2" fmla="val 42240"/>
            </a:avLst>
          </a:prstGeom>
          <a:solidFill>
            <a:srgbClr val="92d050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5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Рисунок 1" descr=""/>
          <p:cNvPicPr/>
          <p:nvPr/>
        </p:nvPicPr>
        <p:blipFill>
          <a:blip r:embed="rId2"/>
          <a:stretch/>
        </p:blipFill>
        <p:spPr>
          <a:xfrm>
            <a:off x="8570880" y="5454720"/>
            <a:ext cx="287172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533520" y="2286000"/>
            <a:ext cx="8610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3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МЕДИЦИНСКОЙ ПОМОЩИ БЕРЕМЕННЫМ, РОЖЕНИЦАМ И РОДИЛЬНИЦАМ»:  таблиц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2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рвано беременностей из числа женщин, у которых выявлены хромосомные аномалии и (или) пороки развития плода,  прошедших оценку антенатального развития плода при сроке беременности от 19 до 21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№1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блице 2000 (12-22 недели), графа 4, строка 4 -  число абортов проведенных по медицинским показаниям должно быть больше, чем в форме №3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по другому, но в таком случае объяснить поч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560"/>
              <a:gd name="adj2" fmla="val 3450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4,04&gt;=32,2120,1,20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"/>
          <p:cNvSpPr/>
          <p:nvPr/>
        </p:nvSpPr>
        <p:spPr>
          <a:xfrm>
            <a:off x="533520" y="228600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й контрол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6-В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причинах временной нетрудоспособности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 (аборты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мма граф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5,1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зраст старше 50 лет) – если в форме №13 нет данных за женщин старше 50 лет, а в форме №16-ВН есть, пояснить разни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Прямоугольная выноска 3"/>
          <p:cNvSpPr/>
          <p:nvPr/>
        </p:nvSpPr>
        <p:spPr>
          <a:xfrm>
            <a:off x="9272520" y="1866960"/>
            <a:ext cx="2360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-ВН,1000,ст52,гр 14+15+16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ст1,гр9+ 13,2000,ст1,гр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13 - ФОРМА №16-В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Рисунок 14" descr=""/>
          <p:cNvPicPr/>
          <p:nvPr/>
        </p:nvPicPr>
        <p:blipFill>
          <a:blip r:embed="rId1"/>
          <a:stretch/>
        </p:blipFill>
        <p:spPr>
          <a:xfrm>
            <a:off x="10598040" y="101520"/>
            <a:ext cx="1594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включаются с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 всех прерываниях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оки до 22 недель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метода и места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1311120" y="2306520"/>
            <a:ext cx="953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СН № 13 отражаются сведения о методах выполнения медицинского аборта, осложнениях, вызванных абортом, и числе женщин, умерших от прерывания берем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10663200" y="136440"/>
            <a:ext cx="15289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дические лица - медицинские организаци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у местного самоуправления, осуществляющему полномочия в сфере охраны здоровь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местного самоуправления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ргану исполнительной власти субъекта Российской Федерации, осуществляющему полномочия в сфере охраны здоровь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исполнительной власти субъекта Российской Федерации, осуществляющие полномочия в сфере охраны здоровь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инистерству здравоохранения Российской Федерац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риториальному органу Росстата в субъекте Российской Федерации по установленному им адре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: вниз 3"/>
          <p:cNvSpPr/>
          <p:nvPr/>
        </p:nvSpPr>
        <p:spPr>
          <a:xfrm>
            <a:off x="5322960" y="216072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трелка: вниз 4"/>
          <p:cNvSpPr/>
          <p:nvPr/>
        </p:nvSpPr>
        <p:spPr>
          <a:xfrm>
            <a:off x="5322960" y="3540240"/>
            <a:ext cx="485640" cy="412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едоставляет сведения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504440"/>
            <a:ext cx="10515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федерального статистического наблюдения N 13 "Сведения о беременности с абортивным исходом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е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ридическими лицами - медицинскими организациям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щими в номенклатуру медицинских организаций (приказ Минздрава России от 6 августа 2013 г. N 529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номенклатуры медицинских организаций»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щие акушерско-гинекологическую помощь во время беременности, родов и в послеродовом период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1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7" descr=""/>
          <p:cNvPicPr/>
          <p:nvPr/>
        </p:nvPicPr>
        <p:blipFill>
          <a:blip r:embed="rId1"/>
          <a:stretch/>
        </p:blipFill>
        <p:spPr>
          <a:xfrm>
            <a:off x="841320" y="1536840"/>
            <a:ext cx="10515600" cy="4956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71" name="Группа 13"/>
          <p:cNvGrpSpPr/>
          <p:nvPr/>
        </p:nvGrpSpPr>
        <p:grpSpPr>
          <a:xfrm>
            <a:off x="792000" y="1521000"/>
            <a:ext cx="10101600" cy="5109840"/>
            <a:chOff x="792000" y="1521000"/>
            <a:chExt cx="10101600" cy="5109840"/>
          </a:xfrm>
        </p:grpSpPr>
        <p:pic>
          <p:nvPicPr>
            <p:cNvPr id="72" name="Схема 2" descr=""/>
            <p:cNvPicPr/>
            <p:nvPr/>
          </p:nvPicPr>
          <p:blipFill>
            <a:blip r:embed="rId1"/>
            <a:stretch/>
          </p:blipFill>
          <p:spPr>
            <a:xfrm>
              <a:off x="792000" y="1521000"/>
              <a:ext cx="10101600" cy="51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Box 5"/>
            <p:cNvSpPr/>
            <p:nvPr/>
          </p:nvSpPr>
          <p:spPr>
            <a:xfrm>
              <a:off x="997200" y="2005920"/>
              <a:ext cx="91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9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7"/>
            <p:cNvSpPr/>
            <p:nvPr/>
          </p:nvSpPr>
          <p:spPr>
            <a:xfrm>
              <a:off x="1403640" y="436140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Box 12"/>
            <p:cNvSpPr/>
            <p:nvPr/>
          </p:nvSpPr>
          <p:spPr>
            <a:xfrm>
              <a:off x="829440" y="5697720"/>
              <a:ext cx="117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  <p:sp>
        <p:nvSpPr>
          <p:cNvPr id="78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166760" y="3292560"/>
            <a:ext cx="91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Объект 7" descr=""/>
          <p:cNvPicPr/>
          <p:nvPr/>
        </p:nvPicPr>
        <p:blipFill>
          <a:blip r:embed="rId1"/>
          <a:stretch/>
        </p:blipFill>
        <p:spPr>
          <a:xfrm>
            <a:off x="3902040" y="291960"/>
            <a:ext cx="7704000" cy="628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42880" y="3349800"/>
            <a:ext cx="27259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9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Группа 9"/>
          <p:cNvGrpSpPr/>
          <p:nvPr/>
        </p:nvGrpSpPr>
        <p:grpSpPr>
          <a:xfrm>
            <a:off x="593640" y="679320"/>
            <a:ext cx="4424400" cy="1171800"/>
            <a:chOff x="593640" y="679320"/>
            <a:chExt cx="4424400" cy="1171800"/>
          </a:xfrm>
        </p:grpSpPr>
        <p:sp>
          <p:nvSpPr>
            <p:cNvPr id="83" name="Прямоугольник 10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solidFill>
              <a:srgbClr val="2f559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1"/>
            <p:cNvSpPr/>
            <p:nvPr/>
          </p:nvSpPr>
          <p:spPr>
            <a:xfrm>
              <a:off x="593640" y="679320"/>
              <a:ext cx="4424400" cy="11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23880" rIns="71280" tIns="71280" bIns="7128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езультаты доабортного консультировани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5" name="Рисунок 11" descr=""/>
          <p:cNvPicPr/>
          <p:nvPr/>
        </p:nvPicPr>
        <p:blipFill>
          <a:blip r:embed="rId2"/>
          <a:stretch/>
        </p:blipFill>
        <p:spPr>
          <a:xfrm>
            <a:off x="10665000" y="136440"/>
            <a:ext cx="152712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21-12-10T06:44:47Z</dcterms:modified>
  <cp:revision>176</cp:revision>
  <dc:subject/>
  <dc:title>Презентация PowerPoint</dc:title>
</cp:coreProperties>
</file>