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F0B-E180-4840-8DCC-85309FF0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B1A-4E7E-4E2C-8CA3-B90BC003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7EE03-B45F-468E-9AEF-7169F56B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3BD38-28DF-45CD-A840-E1816A0C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9B151-9966-455B-ACD1-94E42B34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69DD2-76F8-4D1C-8517-7CCD8A92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C1CEE-A751-45BA-81D3-A8D10076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60922-3512-4EA1-98EF-701FEE8B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EEE88-E504-4C24-BE53-C865C59C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9E582-A334-4443-A324-13CDC28F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DFE12-D178-4DB8-8E52-3DC6E15D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EBA-6BA2-43A5-B1C8-4F66397E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272-3620-474F-AFE0-5D4F5FD9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8E05-3385-48F3-A3A0-603DDDA4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DF43-0F55-45EA-B38B-545C52CE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5FDA-2CB2-48D8-8693-31D9F568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932D-FE14-41FF-876E-68A92B4C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7B72-66A0-4C49-82CE-7F074CA1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6E11-756E-4DB6-9416-2F211D6D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2F66-5EE2-4F06-AB66-EF52B11D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ED5-84E4-4B90-A179-76E1F7BE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50CD-B0F2-48A8-B8B2-3E1A694E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1A2C-3932-4779-9348-C05CF6A7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BB46-01D3-4650-9768-BA33510B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546A-F827-4A6C-8F56-F18B2563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EA19-CC25-4A7F-B0C2-71A07233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E1001-50DE-463D-B33B-A50D4076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26AFB-E227-4DC1-9D5F-DF6ECA8F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C3F40-D388-4A5C-993C-7B9E7822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3F3B2-887B-4C70-BF60-E8A5252B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45137-F82C-4437-AE83-BFB28CED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FC2-2793-4DF7-BE1D-81DBD3FA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AFCB9-DD06-4DC5-B396-B97F3C44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F8908-3B25-4754-B0C6-B072BD48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858DA-CD62-4E00-BDB4-6EDCD6AA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5429A-2033-4785-BF4C-7EA04FA7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EEFB8-ECF6-46E1-ABB6-CCFBE8FF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902CD-7F79-4FA0-B58B-83277D69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71447-0E86-40DC-A921-4421A3BD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E1606-79E4-43A4-AB72-D0759E69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3050E-5768-440F-A429-D9FFBB03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DC5C0-59D4-4C27-949E-1B6C6554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A59-18C6-44B2-A92C-30DCC467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0851B-D3B7-403D-A75D-3BBF3621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ED284-32CB-492C-940B-564C9292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57783-CE37-4D56-8260-74B93256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A13A5-E14A-4264-8574-2FEE08C4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F64C7-BA00-47FC-B73B-1846794A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A8B94-D7FC-4788-A741-86876E79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B3180-C294-4D02-97B6-0A12EE4F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10663-5ADD-41C5-BC5F-DAD1FB6B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87AFC-5644-4AF3-A024-015F5C25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3D6CE-C3F0-4EA8-A65E-CD11F78F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F34-E5AE-4088-8FB9-22CD4C07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548B9-32D5-49C1-95AD-FA26DC23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8B9D4-C3A1-4204-BD7C-F6219C61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BB3BD-F289-42F3-87BD-C566F56A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DDC1A-120A-4E18-9EE5-7DFAC81D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C3EEE-A983-4A76-A927-4C3F89A8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638B9-620C-468A-BDB0-4539EFE5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E0D4A-1D67-48ED-9721-B993AAEE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5730F-4A8D-4CB0-BF0D-F5DE7AB1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D6FAD-FB37-4411-BE18-041440E9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8A6CA-9EA1-4FCE-8F4C-00BEE2A9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B74-1EFE-49E0-B3F1-771EC6C2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755AC-293B-420C-B348-FB990BC7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AD123-4415-4BED-BC2F-114B203C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145CD-3290-448F-BF83-792E465B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4A0EE-BBDE-4E12-93E7-3BC9134A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441A4-745C-4C2C-AE9B-3C72F0B4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BDE19-6C93-4950-8FDB-55971A12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441BD-0825-48A2-AC4B-7D801444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92155-F55A-4460-8A93-918CD242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9D23C-C30A-4249-B845-E9AF1BA4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6A838-3327-4E8D-BAD5-EA412B94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284-F1A9-4DE7-AD30-7CD89E36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0BC76-14A9-45DD-8DAB-9CEAE4CC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C33AA-D30B-4CC9-AD80-11F906C4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7C049-80C9-406B-89FA-DB312553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78EF6-134A-4A34-B6CD-1655184E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26B57-D092-45FE-88B6-1A27F76E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D75FA-7478-49F5-BCEF-DEE324CE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76F92-F023-41EB-80AB-C78F7367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9A981-B94B-4F9A-813F-2298C6A2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6B66A-2964-4C6F-9DF9-8DB2DD8D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EF7B2-0A9D-4494-9008-7E4FF36B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30D1-6B81-416F-9746-4D778BB8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C9498-3089-4713-AF8C-4190F093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1337C-D70A-436D-9A6F-49AEC5EE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CF2BA-338F-49CF-9B3A-ADC71D9C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CF90E-8722-438C-9436-AB2F066D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EA13C-EE18-4EDC-9E44-2B3C5B48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D9409-CC73-464B-AD78-253DDD62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5E18B-7689-4732-8DBB-CEEE71A2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85DF2-9A52-447F-BA3F-CC1BB37B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91E52-2C89-4D44-A87F-E817C145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13B4E-486A-4D83-B56C-C8E063D0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E08-CEA1-4366-9378-A29C0CCC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F437F-3C00-4AD0-AF0D-7689E7B3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3BE8B-823A-4B9E-AD8D-D426ADFE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1D13A-2397-4219-805C-27365F59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5EC3E-F6D1-4F8D-98C0-B20E1006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6885F-F05F-4DA0-9FB4-6566E5A1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79092-B242-4D11-9A7C-2255546D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19409-1F2F-4933-BD43-25AA655F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289C2-167C-4ED6-ADBC-7E73FD72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3ABB5-A714-4821-B0CC-D6AD7FF7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43471-FBF7-4994-B426-DC8397B3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791B-A478-434A-8FEC-70583397434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D1AE-CCD0-489E-B2C1-DFC2C4FB8D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F605-E2BD-48F7-9C74-F92631CECEE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5D15-5C1A-4266-AD21-AE43F009E6D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D130-6855-4A2A-91BF-EEE028B3CD8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4330-C970-4F62-811D-FD331C13FCC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D04E-ECD3-4DB3-990C-14A02632D3D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69B9-016B-4819-BE77-3BB74982D33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6A2C-DABD-4A1F-A000-724F5DB6CBA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84582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РОЛЬ  МЕДИЦИНСКИХ УЧРЕЖДЕНИЙ ВОЛОГОДСКОЙ ОБЛАСТИ В ВЫПОЛНЕНИИ «ДОРОЖНОЙ КАРТЫ» РАЗВИТИЯ ЕДИНОЙ ГОСУДАРСТВЕННОЙ ИНФОРМАЦИОННОЙ СИСТЕМЫ (ЕГИСЗ) В 2016 ГОДУ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5214600" y="5500800"/>
            <a:ext cx="307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Зам.директора МИАЦ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                     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А.Гриши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6868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СОВЕРШЕНСТВОВАНИЕ ИТ-СЛУЖБ ЛПУ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13840" y="714240"/>
            <a:ext cx="8929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2a2003"/>
                </a:solidFill>
                <a:uFillTx/>
                <a:latin typeface="Franklin Gothic Book"/>
              </a:rPr>
              <a:t>ПРОБЛЕМЫ</a:t>
            </a:r>
            <a:r>
              <a:rPr b="1" lang="ru-RU" sz="4000" spc="-1" strike="noStrike">
                <a:solidFill>
                  <a:srgbClr val="2a2003"/>
                </a:solidFill>
                <a:latin typeface="Franklin Gothic Book"/>
              </a:rPr>
              <a:t>:</a:t>
            </a:r>
            <a:r>
              <a:rPr b="1" lang="ru-RU" sz="3600" spc="-1" strike="noStrike">
                <a:solidFill>
                  <a:srgbClr val="2a2003"/>
                </a:solidFill>
                <a:latin typeface="Franklin Gothic Book"/>
              </a:rPr>
              <a:t>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     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поручение ИТ-специалистам работы, которая, в соответствии с должностными инструкциями, должна выполняться другими работниками (экономистами, бухгалтерами, медстатистиками, медрегистраторами и т.д.) – в нарушение приказа ДЗО от 27.05.2015г № 349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      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отсутствие  взаимодействия при внедрении информационных технологий между руководителями медицинских работников  в подразделениях и специалистами ИТ-служб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5-конечная звезда 3"/>
          <p:cNvSpPr/>
          <p:nvPr/>
        </p:nvSpPr>
        <p:spPr>
          <a:xfrm>
            <a:off x="285840" y="1571760"/>
            <a:ext cx="357120" cy="35712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5-конечная звезда 4"/>
          <p:cNvSpPr/>
          <p:nvPr/>
        </p:nvSpPr>
        <p:spPr>
          <a:xfrm>
            <a:off x="357120" y="4572000"/>
            <a:ext cx="357120" cy="35712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6868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СОВЕРШЕНСТВОВАНИЕ ИТ-СЛУЖБ ЛПУ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2560" y="714240"/>
            <a:ext cx="9286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a2003"/>
                </a:solidFill>
                <a:uFillTx/>
                <a:latin typeface="Franklin Gothic Book"/>
              </a:rPr>
              <a:t>РЕШЕНИЕ: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  четкое разграничение функций и взаимодействие руководства ЛПУ и ИТ -специалистов при внедрении ИС, обучении, организации и контроле работы персонала с ИС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a2003"/>
                </a:solidFill>
                <a:uFillTx/>
                <a:latin typeface="Franklin Gothic Book"/>
              </a:rPr>
              <a:t>Сфера ИТ-службы:  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ИТ-инфраструктура  и П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a2003"/>
                </a:solidFill>
                <a:uFillTx/>
                <a:latin typeface="Franklin Gothic Book"/>
              </a:rPr>
              <a:t>Функции ИТ: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 монтаж, настройка, проверка, модернизация, закупка ИТ-оборудования, поддержание круглосуточной работоспособности оборудования и ИТ-систем, устранение сбоев, администрирование, установка и обновление ПО, обучение врачей и медсестер работе с ИС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6868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СОВЕРШЕНСТВОВАНИЕ ИТ-СЛУЖБ ЛПУ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a2003"/>
                </a:solidFill>
                <a:uFillTx/>
                <a:latin typeface="Franklin Gothic Book"/>
              </a:rPr>
              <a:t>СОСТАВ ИТ-СЛУЖБЫ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1.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 Инженер-электроник по сетям и ИТ-инфраструктуре (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монтаж, наладка, восстановление)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2.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 Инженер-электроник по ремонту ИТ-оборудования (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модернизация, замена блоков, заправка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3.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 Инженер-программист (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установка и обновление ПО, восстановление работоспособности ПО, обучение работе с ПО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4.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 Администратор сети (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списки пользователей, допуск  к ресурсам, мониторинг  работы в сети, работоспособность сети) 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5.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 Инженер по безопасности информационных систем (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определение и устранение  угроз безопасности систем, контроль несанкционированного проникновения и правил работы)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6868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СОВЕРШЕНСТВОВАНИЕ ИТ-СЛУЖБ ЛПУ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0" y="499680"/>
            <a:ext cx="94298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a2003"/>
                </a:solidFill>
                <a:uFillTx/>
                <a:latin typeface="Franklin Gothic Book"/>
              </a:rPr>
              <a:t>ПРИНЦИПЫ  ОРГАНИЗАЦИИ  ИТ-СЛУЖБЫ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1.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Четкая регламентация обязанностей ИТ-работников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2. 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Условия  работы: 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помещение персонала и серверов, измерительные приборы, инструменты, книги, спец. периоди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3.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 Куратор службы – уровень зам.главвача или зам. по И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4.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 Взаимодействие с администрацией при внедрении ИТ: 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организация, управление, мед.аспекты, контроль – задача администрации ЛПУ,  обучение – задача специалистов ИТ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5.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 Работа по заявкам и учет работы (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журнал, сроки, отметки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6.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Мотивация внедрения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 ИТ - медперсонала и ИТ-специалистов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7.  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Расчет штатов  по нормативам и их укомплектова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8. 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Повышение квалификации  по направлениям работ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9.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 Годовое планирование работы и средств на ИТ  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6868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ТРЕБОВАНИЯ К МЕДРАБОТНИКАМ ПО ИТ-НАВЫКАМ 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642960"/>
            <a:ext cx="94298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1.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Работа с эл.почтой (</a:t>
            </a: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написание письма, прикрепление документа, отправка, получение письма, чтение и сохранение содержимого  документа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2. 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Регистрация и вход на порталы (ЕПГУ, РПГУ, ДЗО, МИАЦ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3.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 Работа с сайтами</a:t>
            </a: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 (вход, навигация, чтение материалы, сохранение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4.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 Работа с МИС (</a:t>
            </a: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вход, навигация, работа с модулями, формирование и сохранение отчетов, применение и создание шаблонов  электронных записей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5. 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Работа с ИС «Мониторинги»(</a:t>
            </a: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вход, поиск мониторинга, ввод данных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, </a:t>
            </a: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просмотр  таблиц, сохранение данных)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5.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 Работа в </a:t>
            </a:r>
            <a:r>
              <a:rPr b="1" lang="en-US" sz="2800" spc="-1" strike="noStrike">
                <a:solidFill>
                  <a:srgbClr val="2a2003"/>
                </a:solidFill>
                <a:latin typeface="Franklin Gothic Book"/>
              </a:rPr>
              <a:t>Excel 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(</a:t>
            </a: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создание таблиц, ввод данных, формулы, расчеты,  диаграммы,  экспорт  и импорт данных, копирование,  пересылка по сети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6.</a:t>
            </a:r>
            <a:r>
              <a:rPr b="1" lang="en-US" sz="2800" spc="-1" strike="noStrike">
                <a:solidFill>
                  <a:srgbClr val="2a2003"/>
                </a:solidFill>
                <a:latin typeface="Franklin Gothic Book"/>
              </a:rPr>
              <a:t> Word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(</a:t>
            </a: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создание документов, таблиц, копирование, печать, пересылка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7.  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Р</a:t>
            </a:r>
            <a:r>
              <a:rPr b="1" lang="en-US" sz="2800" spc="-1" strike="noStrike">
                <a:solidFill>
                  <a:srgbClr val="2a2003"/>
                </a:solidFill>
                <a:latin typeface="Franklin Gothic Book"/>
              </a:rPr>
              <a:t>owerPoint 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 (</a:t>
            </a: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формирование презентаций, сохранение, показ слайдов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2003"/>
                </a:solidFill>
                <a:latin typeface="Franklin Gothic Book"/>
              </a:rPr>
              <a:t>8.  </a:t>
            </a:r>
            <a:r>
              <a:rPr b="1" lang="ru-RU" sz="2800" spc="-1" strike="noStrike">
                <a:solidFill>
                  <a:srgbClr val="2a2003"/>
                </a:solidFill>
                <a:latin typeface="Franklin Gothic Book"/>
              </a:rPr>
              <a:t>Работа с ЭЦП, скриншот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458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Franklin Gothic Medium"/>
              </a:rPr>
              <a:t>СПАСИБО ЗА ВНИМАНИЕ!</a:t>
            </a:r>
            <a:br>
              <a:rPr sz="6000"/>
            </a:b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28760" y="2643120"/>
            <a:ext cx="85723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a2003"/>
                </a:solidFill>
                <a:uFillTx/>
                <a:latin typeface="Calibri"/>
                <a:ea typeface="Calibri"/>
              </a:rPr>
              <a:t>Наши контакты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2003"/>
                </a:solidFill>
                <a:latin typeface="Calibri"/>
                <a:ea typeface="Calibri"/>
              </a:rPr>
              <a:t>   </a:t>
            </a:r>
            <a:r>
              <a:rPr b="1" lang="ru-RU" sz="2800" spc="-1" strike="noStrike">
                <a:solidFill>
                  <a:srgbClr val="2a2003"/>
                </a:solidFill>
                <a:latin typeface="Calibri"/>
                <a:ea typeface="Calibri"/>
              </a:rPr>
              <a:t>БУЗ ВО «</a:t>
            </a:r>
            <a:r>
              <a:rPr b="1" lang="ru-RU" sz="2800" spc="-1" strike="noStrike">
                <a:solidFill>
                  <a:srgbClr val="443329"/>
                </a:solidFill>
                <a:latin typeface="Calibri"/>
                <a:ea typeface="Calibri"/>
              </a:rPr>
              <a:t>МИАЦ» - г.Вологда, Пошехонское шоссе, 31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3329"/>
                </a:solidFill>
                <a:latin typeface="Franklin Gothic Book"/>
              </a:rPr>
              <a:t>   </a:t>
            </a:r>
            <a:r>
              <a:rPr b="1" lang="ru-RU" sz="2800" spc="-1" strike="noStrike">
                <a:solidFill>
                  <a:srgbClr val="443329"/>
                </a:solidFill>
                <a:latin typeface="Calibri"/>
                <a:ea typeface="Calibri"/>
              </a:rPr>
              <a:t>Телефон (приемная):        (8172) 71-12-51, доб.133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3329"/>
                </a:solidFill>
                <a:latin typeface="Calibri"/>
                <a:ea typeface="Calibri"/>
              </a:rPr>
              <a:t>   </a:t>
            </a:r>
            <a:r>
              <a:rPr b="1" lang="ru-RU" sz="2800" spc="-1" strike="noStrike">
                <a:solidFill>
                  <a:srgbClr val="443329"/>
                </a:solidFill>
                <a:latin typeface="Calibri"/>
                <a:ea typeface="Calibri"/>
              </a:rPr>
              <a:t>Телефон зам.директора:  (8172) 71-12-51, доб.202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3329"/>
                </a:solidFill>
                <a:latin typeface="Calibri"/>
                <a:ea typeface="Calibri"/>
              </a:rPr>
              <a:t>   </a:t>
            </a:r>
            <a:r>
              <a:rPr b="1" lang="ru-RU" sz="2800" spc="-1" strike="noStrike">
                <a:solidFill>
                  <a:srgbClr val="443329"/>
                </a:solidFill>
                <a:latin typeface="Calibri"/>
                <a:ea typeface="Calibri"/>
              </a:rPr>
              <a:t>Эл.почта:   </a:t>
            </a:r>
            <a:r>
              <a:rPr b="1" lang="en-US" sz="2800" spc="-1" strike="noStrike">
                <a:solidFill>
                  <a:srgbClr val="443329"/>
                </a:solidFill>
                <a:latin typeface="Calibri"/>
                <a:ea typeface="Calibri"/>
              </a:rPr>
              <a:t>miac35@mail.ru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3329"/>
                </a:solidFill>
                <a:latin typeface="Calibri"/>
                <a:ea typeface="Calibri"/>
              </a:rPr>
              <a:t>   </a:t>
            </a:r>
            <a:r>
              <a:rPr b="1" lang="ru-RU" sz="2800" spc="-1" strike="noStrike">
                <a:solidFill>
                  <a:srgbClr val="443329"/>
                </a:solidFill>
                <a:latin typeface="Calibri"/>
                <a:ea typeface="Calibri"/>
              </a:rPr>
              <a:t>Сайт МИАЦ:    </a:t>
            </a:r>
            <a:r>
              <a:rPr b="1" lang="en-US" sz="2800" spc="-1" strike="noStrike">
                <a:solidFill>
                  <a:srgbClr val="443329"/>
                </a:solidFill>
                <a:latin typeface="Calibri"/>
                <a:ea typeface="Calibri"/>
              </a:rPr>
              <a:t>http://miac.volmed.org.ru/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6868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ОСНОВНЫЕ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ДОКУМЕНТЫ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ПО ЕГИСЗ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14200" y="928800"/>
            <a:ext cx="8686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«Дорожная карта» развития ЕГИСЗ в 2015 – 2018 гг., утвержденная Соглашением между Министерством здравоохранения Российской Федерации и Правительством Вологодской области от 2 июля 2015 год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План-график проекта по развитию ЕГИСЗ на 2016 год в Вологодской области от 19.02.16г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Госпрограмма «Развитие здравоохранения  Вологодской области» на 2014-2020 годы, 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утвержденная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постановлением Правительства Вологодской области  от 28.10.2014г № 1112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6868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ОСНОВНЫЕ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ДОКУМЕНТЫ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ПО ЕГИСЗ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14200" y="928800"/>
            <a:ext cx="8686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Выступление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Министра здравоохранения в Сант-Петербурге 9 апреля 2016 года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«В течение двух ближайших лет все медицинские работники должны оказаться в единой информационной системе…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«Одной из приоритетных целей Министерства здравоохранения Российской Федерации является переход на электронный документооборот, на личный кабинет пациента не только в семи пилотных регионах, но и по всей Росии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НЕКОТОРЫЕ ИТОГИ 2015 ГОДА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Созданы новые АРМы, обучены более трех тысяч медработников, завершено создание защищенной информационной, создано более 70 тысяч записей в ЭМК и 200 тысяч записей на прием через Интернет  и инфомат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Внедрена новая ИС «Управление ЛЛС», штрих-коды на рецептах, работа МИС с полисами ОМС со штрих-кодом, формирование счетов по КСГ, работа с ЭЦП, передача документов в ФЦОД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a2003"/>
                </a:solidFill>
                <a:uFillTx/>
                <a:latin typeface="Franklin Gothic Book"/>
              </a:rPr>
              <a:t>ПРОБЛЕМЫ: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  мало АРМ, часть данных в МИС неактуальна, недостаточный объем работы с ЭМ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6868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ЗАДАЧИ ЗДРАВООХРОАНЕНИЯ ПО ИТ В 2016 ГОДУ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2560" y="1500120"/>
            <a:ext cx="88297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1" lang="ru-RU" sz="3600" spc="-1" strike="noStrike">
                <a:solidFill>
                  <a:srgbClr val="2a2003"/>
                </a:solidFill>
                <a:latin typeface="Franklin Gothic Book"/>
              </a:rPr>
              <a:t>Внедрение электронного медицинского документооборота в сфере здравоохранения области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a2003"/>
                </a:solidFill>
                <a:latin typeface="Franklin Gothic Book"/>
              </a:rPr>
              <a:t>   </a:t>
            </a:r>
            <a:r>
              <a:rPr b="1" lang="ru-RU" sz="3600" spc="-1" strike="noStrike">
                <a:solidFill>
                  <a:srgbClr val="2a2003"/>
                </a:solidFill>
                <a:latin typeface="Franklin Gothic Book"/>
              </a:rPr>
              <a:t>2. Выполнение  плана-графика реализации мероприятий «дорожной карты» развития ЕГИСЗ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6868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МЕРОПРИЯТИЯ ПО ВЫПОЛНЕНИЮ ЗАДАЧИ №1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14200" y="856800"/>
            <a:ext cx="87868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2a2003"/>
                </a:solidFill>
                <a:uFillTx/>
                <a:latin typeface="Franklin Gothic Book"/>
              </a:rPr>
              <a:t>МИАЦ</a:t>
            </a:r>
            <a:r>
              <a:rPr b="1" lang="ru-RU" sz="4000" spc="-1" strike="noStrike">
                <a:solidFill>
                  <a:srgbClr val="2a2003"/>
                </a:solidFill>
                <a:latin typeface="Franklin Gothic Book"/>
              </a:rPr>
              <a:t>:</a:t>
            </a:r>
            <a:r>
              <a:rPr b="1" lang="ru-RU" sz="3600" spc="-1" strike="noStrike">
                <a:solidFill>
                  <a:srgbClr val="2a2003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создание ЭМД, хранилище ЭМД, система маршрутизации, ЭИБ, система аутентификации и мониторинга, ЦОД, передача ЭМД в ФЦОД МЗ РФ (в ИЭМК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2a2003"/>
                </a:solidFill>
                <a:uFillTx/>
                <a:latin typeface="Franklin Gothic Book"/>
              </a:rPr>
              <a:t>ЛПУ:</a:t>
            </a:r>
            <a:r>
              <a:rPr b="1" lang="ru-RU" sz="3600" spc="-1" strike="noStrike">
                <a:solidFill>
                  <a:srgbClr val="2a2003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создание АРМ и ЛВС, приобретение ЭЦП, дополнительное обучение персонала, организация работы по формированию ЭМД, использование ЭМД в работе, межведомственный документооборот  (ИПРА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2a2003"/>
                </a:solidFill>
                <a:uFillTx/>
                <a:latin typeface="Franklin Gothic Book"/>
              </a:rPr>
              <a:t>ДЗО:</a:t>
            </a:r>
            <a:r>
              <a:rPr b="1" lang="ru-RU" sz="3600" spc="-1" strike="noStrike" u="sng">
                <a:solidFill>
                  <a:srgbClr val="2a2003"/>
                </a:solidFill>
                <a:uFillTx/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организация и нормативное оформление электронного документооборо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6868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МЕРОПРИЯТИЯ ПО ВЫПОЛНЕНИЮ ЗАДАЧИ №1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14200" y="856800"/>
            <a:ext cx="87868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2a2003"/>
                </a:solidFill>
                <a:uFillTx/>
                <a:latin typeface="Franklin Gothic Book"/>
              </a:rPr>
              <a:t>Электронные медицинские документы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2003"/>
                </a:solidFill>
                <a:latin typeface="Franklin Gothic Book"/>
              </a:rPr>
              <a:t>1. Описательная часть документа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2003"/>
                </a:solidFill>
                <a:latin typeface="Franklin Gothic Book"/>
              </a:rPr>
              <a:t>2. Вложения (результаты диагностики, диагностические заключения, протоколы  операций, трансфузий, снимки и т.д.)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2003"/>
                </a:solidFill>
                <a:latin typeface="Franklin Gothic Book"/>
              </a:rPr>
              <a:t>3. Скрепление воедино ЭЦП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Нужны сканеры для прикрепления!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6868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МЕРОПРИЯТИЯ ПО ВЫПОЛНЕНИЮ ЗАДАЧИ №2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14200" y="856800"/>
            <a:ext cx="87868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2a2003"/>
                </a:solidFill>
                <a:uFillTx/>
                <a:latin typeface="Franklin Gothic Book"/>
              </a:rPr>
              <a:t>МИАЦ</a:t>
            </a:r>
            <a:r>
              <a:rPr b="1" lang="ru-RU" sz="4000" spc="-1" strike="noStrike">
                <a:solidFill>
                  <a:srgbClr val="2a2003"/>
                </a:solidFill>
                <a:latin typeface="Franklin Gothic Book"/>
              </a:rPr>
              <a:t>:</a:t>
            </a:r>
            <a:r>
              <a:rPr b="1" lang="ru-RU" sz="3600" spc="-1" strike="noStrike">
                <a:solidFill>
                  <a:srgbClr val="2a2003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создание ИС «Диспетчеризация СМП»,  и ситуационного центра, ИС «Естественное движение населения», модернизация ИС «Мониторинги», «личные кабинеты» гражда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2a2003"/>
                </a:solidFill>
                <a:uFillTx/>
                <a:latin typeface="Franklin Gothic Book"/>
              </a:rPr>
              <a:t>ЛПУ:</a:t>
            </a:r>
            <a:r>
              <a:rPr b="1" lang="ru-RU" sz="3600" spc="-1" strike="noStrike">
                <a:solidFill>
                  <a:srgbClr val="2a2003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приобретение оборудования для СМП, организация сбора данных из сельских подразделений ЛПУ, удостоверение отчетов ЭЦП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2a2003"/>
                </a:solidFill>
                <a:uFillTx/>
                <a:latin typeface="Franklin Gothic Book"/>
              </a:rPr>
              <a:t>ДЗО:</a:t>
            </a:r>
            <a:r>
              <a:rPr b="1" lang="ru-RU" sz="3600" spc="-1" strike="noStrike" u="sng">
                <a:solidFill>
                  <a:srgbClr val="2a2003"/>
                </a:solidFill>
                <a:uFillTx/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организация электронной очереди на плановую госпитализацию и создание системы оценки гражданами деятельности ЛП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ИТ СЕГОДНЯ: БЫЛО В 2011 Г  И СТАЛО В 2015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8920" y="549360"/>
            <a:ext cx="8605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От разрозненных  60 статистических систем и  Интернета 0,5 Мбт</a:t>
            </a:r>
            <a:r>
              <a:rPr b="1" lang="en-US" sz="3200" spc="-1" strike="noStrike">
                <a:solidFill>
                  <a:srgbClr val="2a2003"/>
                </a:solidFill>
                <a:latin typeface="Franklin Gothic Book"/>
              </a:rPr>
              <a:t>/</a:t>
            </a:r>
            <a:r>
              <a:rPr b="1" lang="ru-RU" sz="3200" spc="-1" strike="noStrike">
                <a:solidFill>
                  <a:srgbClr val="2a2003"/>
                </a:solidFill>
                <a:latin typeface="Franklin Gothic Book"/>
              </a:rPr>
              <a:t>с  - 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к комплексу ЕГИСЗ.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                   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ЕГИСЗ сегодня это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79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углосуточно работающих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 ЛВС учреждений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 6,7 тыс. ПК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защищенная областная медицинская сеть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з   72 ЛПУ  и РЦОД;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- скоростной Интернет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о 15 Мбт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 в 79 ЛПУ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- 14 ИС :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МИС, «ЛЛС», «Статгод», «Мониторинги», «Младенческая смертность», «Электронная регистратура», «ЭМК»,  Линк,  «Рег.регистр медработников», «Рег.Паспорт ЛПУ», Рег.АХД»,     «Аудит ИС», «Региональный архив медизображений», «Телемедицина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- ежедневная автоматизированная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ередача данных из ЛПУ в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ЦОД        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- защищенный канал до МЗ РФ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 регулярная передача данных и электронных медицинских документ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7:07:24Z</dcterms:created>
  <dc:creator>Аким Асимович Гришин</dc:creator>
  <dc:description/>
  <dc:language>en-US</dc:language>
  <cp:lastModifiedBy>Аким Асимович Гришин</cp:lastModifiedBy>
  <dcterms:modified xsi:type="dcterms:W3CDTF">2016-04-18T05:51:42Z</dcterms:modified>
  <cp:revision>51</cp:revision>
  <dc:subject/>
  <dc:title>Роль  медицинских учреждений вологодской области в выполнении «дорожной карты» развития единой государственной информационной системы (Егисз) в 2016 году</dc:title>
</cp:coreProperties>
</file>